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5F95-EDB7-4717-B275-7B317221E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4C2F-E83D-477A-B9BC-741CDFEA2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8EFD-ACE3-4018-B573-52216F62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AAA-A428-40BA-B459-639C7B9E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B49-C726-4801-B913-00A7542E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58B-5AEA-486C-A804-5FC3856A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5CC-EA65-424E-BBA6-E6044B01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A85-E0EF-4A5F-8FC4-57C7860D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FFA-95FF-4F3F-9B0A-3A19ED3C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D79-69DE-42E1-86FE-72514628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B05-7209-425B-92B1-00DE1FD3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152-196E-4801-8139-41CEAE53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273-F283-486F-BD1F-1EB56CB8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D6C-E12E-4EE3-BB96-A379CE40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7CA-C8AB-4B25-A1C3-65EC1ED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EC8-3B81-4930-A34D-1FA49ECCE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sha Mohanl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sha Mohan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isha Mohanlal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isha Mohanl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isha Mohanla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200400"/>
            <a:ext cx="22096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sha. Yo vivo New York, Queens. Yo tengo catorce años. Yo  tengo un hermáno mayun, sue es Steve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27672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73356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 son no va a invitar mi? Jajajaja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438280"/>
            <a:ext cx="38862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Yo va a fiesta hoy!!! </a:t>
            </a:r>
            <a:r>
              <a:rPr b="0" lang="en-US" sz="7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666880" y="4038480"/>
            <a:ext cx="381024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qué estás haciendo.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 lindó! Yo quérie comer helado y tú?  Te guesta:  Commentario  5 sceonds ago   December 5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sha Mohanl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sha Mohan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isha Mohanlal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76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isha Mohanla 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isha Mohanla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6"/>
          <p:cNvSpPr/>
          <p:nvPr/>
        </p:nvSpPr>
        <p:spPr>
          <a:xfrm>
            <a:off x="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días, como esta su dí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7"/>
          <p:cNvSpPr/>
          <p:nvPr/>
        </p:nvSpPr>
        <p:spPr>
          <a:xfrm>
            <a:off x="0" y="3200400"/>
            <a:ext cx="22096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sha. Yo vivo New York, Queens. Yo tengo catorce años. Yo  tengo un hermáno mayun, sue es Steve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743200" y="327672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819520" y="3276720"/>
            <a:ext cx="373356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a tú mi amór!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2743200" y="2438280"/>
            <a:ext cx="38862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uenas tardes!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! Mi día es  muy bueno y tú?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qué estás haciendo.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 lindó! Yo quérie comer helado y tú?  Te guesta:  Commentario  5 sceonds ago   December 5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9" descr="390338_462884177083783_505372657_n.jpg"/>
          <p:cNvPicPr/>
          <p:nvPr/>
        </p:nvPicPr>
        <p:blipFill>
          <a:blip r:embed="rId1"/>
          <a:stretch/>
        </p:blipFill>
        <p:spPr>
          <a:xfrm>
            <a:off x="228600" y="380880"/>
            <a:ext cx="1378080" cy="206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3" descr="255454_485362224809992_722496303_n.jpg"/>
          <p:cNvPicPr/>
          <p:nvPr/>
        </p:nvPicPr>
        <p:blipFill>
          <a:blip r:embed="rId2"/>
          <a:stretch/>
        </p:blipFill>
        <p:spPr>
          <a:xfrm>
            <a:off x="0" y="4419720"/>
            <a:ext cx="53352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4:35:25Z</dcterms:created>
  <dc:creator>FriscoISD</dc:creator>
  <dc:description/>
  <dc:language>en-US</dc:language>
  <cp:lastModifiedBy>NYCDOE</cp:lastModifiedBy>
  <dcterms:modified xsi:type="dcterms:W3CDTF">2013-01-02T15:01:57Z</dcterms:modified>
  <cp:revision>108</cp:revision>
  <dc:subject/>
  <dc:title>Profile</dc:title>
</cp:coreProperties>
</file>